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gif" ContentType="image/gif"/>
  <Override PartName="/ppt/media/image6.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1F106-80CD-4A37-9820-907D8127B2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OMB does not state it, I would recommend that the PAR is also signed by the direct superviso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printou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95E887-1315-4843-BA2F-7A7F98AEC4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4B775-F626-409A-9C6D-16B6214FE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B45C38-B870-478D-8CA8-2B133B63A6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D6D2FE-38CB-4EC3-9840-C84E648DE6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DF936-77DB-4FF0-A31C-E530C4ECB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C607C-1A17-4DC8-89BD-BEA950E74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26456-E13E-4AFC-8603-30BDBA3E6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79046-34FA-4E08-AE6A-ACFCE89E8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93026-C39D-4BBE-940C-72C3F9B1F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93B0E-57CE-4799-941E-286285B66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9F285-1CF3-4517-AD24-95F84B771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A001E-383E-4B7D-B556-6C61F79D29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61786-94B5-45A7-827D-C8DF46AF07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762120" y="533520"/>
            <a:ext cx="5259240" cy="5779800"/>
          </a:xfrm>
          <a:prstGeom prst="rect">
            <a:avLst/>
          </a:prstGeom>
          <a:ln w="0">
            <a:noFill/>
          </a:ln>
        </p:spPr>
      </p:pic>
      <p:sp>
        <p:nvSpPr>
          <p:cNvPr id="49" name="PlaceHolder 1"/>
          <p:cNvSpPr>
            <a:spLocks noGrp="1"/>
          </p:cNvSpPr>
          <p:nvPr>
            <p:ph type="title"/>
          </p:nvPr>
        </p:nvSpPr>
        <p:spPr>
          <a:xfrm>
            <a:off x="685800" y="609480"/>
            <a:ext cx="7772400" cy="2533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TRICT AUDITING UPDATE</a:t>
            </a:r>
            <a:endParaRPr b="0" lang="en-US" sz="3600" spc="-1" strike="noStrike">
              <a:solidFill>
                <a:srgbClr val="000000"/>
              </a:solidFill>
              <a:latin typeface="Arial"/>
            </a:endParaRPr>
          </a:p>
        </p:txBody>
      </p:sp>
      <p:sp>
        <p:nvSpPr>
          <p:cNvPr id="50" name="PlaceHolder 2"/>
          <p:cNvSpPr>
            <a:spLocks noGrp="1"/>
          </p:cNvSpPr>
          <p:nvPr>
            <p:ph type="subTitle"/>
          </p:nvPr>
        </p:nvSpPr>
        <p:spPr>
          <a:xfrm>
            <a:off x="1371600" y="2971800"/>
            <a:ext cx="6400800" cy="266688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IRECT COST </a:t>
            </a:r>
            <a:endParaRPr b="0"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D</a:t>
            </a:r>
            <a:endParaRPr b="0"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TIME DISTRIBUTION</a:t>
            </a:r>
            <a:endParaRPr b="0" lang="en-US" sz="32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lissa A. Austin, Audits Manager</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 State Department of Education</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ice of Finance</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strict Auditing and Field Services Section</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ederal Review</a:t>
            </a:r>
            <a:endParaRPr b="0" lang="en-US" sz="4400" spc="-1" strike="noStrike">
              <a:solidFill>
                <a:srgbClr val="000000"/>
              </a:solidFill>
              <a:latin typeface="Arial"/>
            </a:endParaRPr>
          </a:p>
        </p:txBody>
      </p:sp>
      <p:sp>
        <p:nvSpPr>
          <p:cNvPr id="71"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 2007 – USDE Indirect Cost Group performed a review of the indirect cost allocation plan the SCDE uses for LE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s noted –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 Leave Payments</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ion of new object codes 140 and 150</a:t>
            </a:r>
            <a:endParaRPr b="0"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40: Compensation paid to employees for accumulated terminal leave on termination of employment.</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50:  The second annual leave payment to eligible TERI employees at retirement</a:t>
            </a:r>
            <a:endParaRPr b="0" lang="en-US" sz="14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l be charged indirectly to federal programs (However, we may end up excluding the terminal leave payments altogether).</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ing of time distribution</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CDE must monitor LEA’s to ensure that they are in compliance with the A-87 requirements for time distribution record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177C82C-97D6-48F7-893D-949D6AAB3A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gulations</a:t>
            </a:r>
            <a:endParaRPr b="0" lang="en-US" sz="4400" spc="-1" strike="noStrike">
              <a:solidFill>
                <a:srgbClr val="000000"/>
              </a:solidFill>
              <a:latin typeface="Arial"/>
            </a:endParaRPr>
          </a:p>
        </p:txBody>
      </p:sp>
      <p:sp>
        <p:nvSpPr>
          <p:cNvPr id="73"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MB Circular A-87 “Cost Principles for State, Local, and Indian Tribal Organizations” Paragraph 8h establishes requirements for the support of salaries and wages in regards to federal awa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GAR 34 CFR Part 76</a:t>
            </a:r>
            <a:endParaRPr b="0" lang="en-US" sz="3200" spc="-1" strike="noStrike">
              <a:solidFill>
                <a:srgbClr val="000000"/>
              </a:solidFill>
              <a:latin typeface="Arial"/>
            </a:endParaRPr>
          </a:p>
        </p:txBody>
      </p:sp>
      <p:pic>
        <p:nvPicPr>
          <p:cNvPr id="74" name="" descr=""/>
          <p:cNvPicPr/>
          <p:nvPr/>
        </p:nvPicPr>
        <p:blipFill>
          <a:blip r:embed="rId1"/>
          <a:stretch/>
        </p:blipFill>
        <p:spPr>
          <a:xfrm>
            <a:off x="2743200" y="4724280"/>
            <a:ext cx="3381480" cy="1752840"/>
          </a:xfrm>
          <a:prstGeom prst="rect">
            <a:avLst/>
          </a:prstGeom>
          <a:ln w="0">
            <a:noFill/>
          </a:ln>
        </p:spPr>
      </p:pic>
      <p:sp>
        <p:nvSpPr>
          <p:cNvPr id="4" name="PlaceHolder 3"/>
          <p:cNvSpPr>
            <a:spLocks noGrp="1"/>
          </p:cNvSpPr>
          <p:nvPr>
            <p:ph type="sldNum" idx="3"/>
          </p:nvPr>
        </p:nvSpPr>
        <p:spPr/>
        <p:txBody>
          <a:bodyPr/>
          <a:p>
            <a:fld id="{540BC7C0-33AD-4400-BDAF-1221D166E5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ocumentation Requirement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harges to federal awards for salaries and wages, whether treated as direct or indirect costs, will be based on payrolls documented in accordance with generally accepted practice of the government unit and approved by a responsible official of the government uni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2362320" y="4800600"/>
            <a:ext cx="4038480" cy="1828800"/>
          </a:xfrm>
          <a:prstGeom prst="rect">
            <a:avLst/>
          </a:prstGeom>
          <a:ln w="0">
            <a:noFill/>
          </a:ln>
        </p:spPr>
      </p:pic>
      <p:sp>
        <p:nvSpPr>
          <p:cNvPr id="4" name="PlaceHolder 3"/>
          <p:cNvSpPr>
            <a:spLocks noGrp="1"/>
          </p:cNvSpPr>
          <p:nvPr>
            <p:ph type="sldNum" idx="3"/>
          </p:nvPr>
        </p:nvSpPr>
        <p:spPr/>
        <p:txBody>
          <a:bodyPr/>
          <a:p>
            <a:fld id="{EBA34468-DB3C-4099-9284-C7445EFA6F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ocumentation Requirements</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rtifications – </a:t>
            </a:r>
            <a:r>
              <a:rPr b="1" lang="en-US" sz="2000" spc="-1" strike="noStrike" u="sng">
                <a:solidFill>
                  <a:srgbClr val="000000"/>
                </a:solidFill>
                <a:uFillTx/>
                <a:latin typeface="Arial"/>
              </a:rPr>
              <a:t>At least semi-annually</a:t>
            </a:r>
            <a:r>
              <a:rPr b="0" lang="en-US" sz="2000" spc="-1" strike="noStrike">
                <a:solidFill>
                  <a:srgbClr val="000000"/>
                </a:solidFill>
                <a:latin typeface="Arial"/>
              </a:rPr>
              <a:t>, employees who are expected to work solely on a single Federal award or cost objective are required to certify that they indeed worked solely on that program for the period covered by the certific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Cost Objective – 100% from a single funding source, 100% with a single type of student/class which may be funded from federal, state, and/or local funds (ex. Voc. Ed, IDEA)</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always possible to tell by looking at funding only whether an employee is single or multiple cost objectives. Single cost objective will be determined by the employee’s activities, not solely by funding</a:t>
            </a:r>
            <a:endParaRPr b="0" lang="en-US" sz="20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t be signed by the employee or the supervisory official having first-hand knowledge of the work performed by the employe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standard for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3E2984C-5722-4A8B-A2C7-1575217A4B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ocumentation Requirements (Continued)</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nel activity reports – For employees who work on multiple activities or cost objectives, a distribution of their salaries or wages will be supported by PA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whe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one federal awar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 award and non-Federal awar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rect cost activity and a direct cost activi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or more indirect cost activities allocated using different bas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unallowable activity and a direct or indirect cost activity</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1BA0359-0899-4FD8-8B77-ADBA0E6F96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R REQUIREMENTS</a:t>
            </a:r>
            <a:endParaRPr b="0" lang="en-US" sz="4400" spc="-1" strike="noStrike">
              <a:solidFill>
                <a:srgbClr val="000000"/>
              </a:solidFill>
              <a:latin typeface="Arial"/>
            </a:endParaRPr>
          </a:p>
        </p:txBody>
      </p:sp>
      <p:sp>
        <p:nvSpPr>
          <p:cNvPr id="83"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reflect an after the fact distribution</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account for the total activity for which an employee is compensated</a:t>
            </a: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non-federal activity, it is okay to just state “non-federal activity” without including any additional detail</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activities must be described</a:t>
            </a:r>
            <a:endParaRPr b="0" lang="en-US" sz="28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be prepared </a:t>
            </a:r>
            <a:r>
              <a:rPr b="1" lang="en-US" sz="3200" spc="-1" strike="noStrike">
                <a:solidFill>
                  <a:srgbClr val="000000"/>
                </a:solidFill>
                <a:latin typeface="Arial"/>
              </a:rPr>
              <a:t>monthly</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be signed and dated by the employee</a:t>
            </a:r>
            <a:endParaRPr b="0" lang="en-US" sz="32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3BC5DEE-4DC1-41AD-AD0A-8EBA4E255E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ocumentation Requirements (Continued)</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alaries and wages of employees used in meeting cost sharing and matching requirements of Federal awards </a:t>
            </a:r>
            <a:r>
              <a:rPr b="1" lang="en-US" sz="3200" spc="-1" strike="noStrike" u="sng">
                <a:solidFill>
                  <a:srgbClr val="000000"/>
                </a:solidFill>
                <a:uFillTx/>
                <a:latin typeface="Arial"/>
              </a:rPr>
              <a:t>must be supported in the same manner</a:t>
            </a:r>
            <a:r>
              <a:rPr b="1" lang="en-US" sz="3200" spc="-1" strike="noStrike">
                <a:solidFill>
                  <a:srgbClr val="000000"/>
                </a:solidFill>
                <a:latin typeface="Arial"/>
              </a:rPr>
              <a:t> as those claimed as allowable costs under Federal award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8F3ADD6-7B44-48F3-93A9-4F5635F5CD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djustment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s are required to adjust time from budgeted hours to actual hou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justments must be made at least </a:t>
            </a:r>
            <a:r>
              <a:rPr b="1" lang="en-US" sz="2800" spc="-1" strike="noStrike" u="sng">
                <a:solidFill>
                  <a:srgbClr val="000000"/>
                </a:solidFill>
                <a:uFillTx/>
                <a:latin typeface="Arial"/>
              </a:rPr>
              <a:t>quarter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s charged to Federal awards to reflect adjustments made as a result of the activity actually performed may be recorded annually if the quarterly comparisons show the differences between budgeted and actual costs are </a:t>
            </a:r>
            <a:r>
              <a:rPr b="1" lang="en-US" sz="2800" spc="-1" strike="noStrike" u="sng">
                <a:solidFill>
                  <a:srgbClr val="000000"/>
                </a:solidFill>
                <a:uFillTx/>
                <a:latin typeface="Arial"/>
              </a:rPr>
              <a:t>less than ten percen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AB1D354-56ED-4364-BF62-80DBB4C688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DIT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ocumentation of certifications and personnel activity records should be readily available for audits by independent auditors, the SCDE, or federal auditors. The length of time documentation should be kept shall be in accordance with state and federal regulations, normally between 3-5 year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4DCC37B-9C88-43EB-911E-511CBA7E2F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VIEW</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ifications, at least semi-annually, are required for employees who are expected to work 100% on a single cost objectiv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nel activity records (PAR’s) (at least monthly) are required for those employees who work on multiple cost objectiv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justment of budgeted hours to actual hours must be made at least quarterly unless differences are less than ten percent. If less than 10%, the adjustments can be made annuall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documentation for the required period of tim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431459C-8314-47EB-B49F-6D9F05EBF9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are Indirect Cost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rect costs are those expenses of doing business that are not readily identifiable with the activities of a grant or contract but are, nevertheless, incurred for the joint benefit of those activities and other activities or programs of the organizati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Criteria</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incurred for a common or joint purpose benefiting more than one cost objective an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not readily assignable to the cost objectives specifically benefited.</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2F38641-3E7E-4AC4-BC60-92EBCB11BC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lissa A. Austin</a:t>
            </a:r>
            <a:br>
              <a:rPr sz="4400"/>
            </a:br>
            <a:r>
              <a:rPr b="0" lang="en-US" sz="4400" spc="-1" strike="noStrike">
                <a:solidFill>
                  <a:srgbClr val="000000"/>
                </a:solidFill>
                <a:latin typeface="Arial"/>
              </a:rPr>
              <a:t>Audits Manager</a:t>
            </a:r>
            <a:endParaRPr b="0" lang="en-US" sz="4400" spc="-1" strike="noStrike">
              <a:solidFill>
                <a:srgbClr val="000000"/>
              </a:solidFill>
              <a:latin typeface="Arial"/>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29 Senate Street, Room 403</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umbia, SC  29201</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3-734-8453</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ustin@ed.sc.gov</a:t>
            </a:r>
            <a:endParaRPr b="0" lang="en-US" sz="2800" spc="-1" strike="noStrike">
              <a:solidFill>
                <a:srgbClr val="000000"/>
              </a:solidFill>
              <a:latin typeface="Arial"/>
            </a:endParaRPr>
          </a:p>
        </p:txBody>
      </p:sp>
      <p:pic>
        <p:nvPicPr>
          <p:cNvPr id="94" name="" descr=""/>
          <p:cNvPicPr/>
          <p:nvPr/>
        </p:nvPicPr>
        <p:blipFill>
          <a:blip r:embed="rId1"/>
          <a:stretch/>
        </p:blipFill>
        <p:spPr>
          <a:xfrm>
            <a:off x="3962520" y="685800"/>
            <a:ext cx="1299960" cy="1430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s of Indirect Cost Functions</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di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dge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ro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n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chasing</a:t>
            </a:r>
            <a:endParaRPr b="0" lang="en-US" sz="3200" spc="-1" strike="noStrike">
              <a:solidFill>
                <a:srgbClr val="000000"/>
              </a:solidFill>
              <a:latin typeface="Arial"/>
            </a:endParaRPr>
          </a:p>
        </p:txBody>
      </p:sp>
      <p:pic>
        <p:nvPicPr>
          <p:cNvPr id="55" name="" descr=""/>
          <p:cNvPicPr/>
          <p:nvPr/>
        </p:nvPicPr>
        <p:blipFill>
          <a:blip r:embed="rId1"/>
          <a:stretch/>
        </p:blipFill>
        <p:spPr>
          <a:xfrm>
            <a:off x="4114800" y="1752480"/>
            <a:ext cx="3429000" cy="3200400"/>
          </a:xfrm>
          <a:prstGeom prst="rect">
            <a:avLst/>
          </a:prstGeom>
          <a:ln w="0">
            <a:noFill/>
          </a:ln>
        </p:spPr>
      </p:pic>
      <p:sp>
        <p:nvSpPr>
          <p:cNvPr id="4" name="PlaceHolder 3"/>
          <p:cNvSpPr>
            <a:spLocks noGrp="1"/>
          </p:cNvSpPr>
          <p:nvPr>
            <p:ph type="sldNum" idx="3"/>
          </p:nvPr>
        </p:nvSpPr>
        <p:spPr/>
        <p:txBody>
          <a:bodyPr/>
          <a:p>
            <a:fld id="{C005A92B-6F64-489A-88DA-944B3C9FE4A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amples of Direct Cost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aries and Wag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lies and Materi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employee fringe benefits for direct labor employe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vel of direct labor employe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ment for a specific program or gra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ultant services for a particular program or gr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2BB6535-D79D-47B4-9E44-74E6FC49E2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utation of Indirect Cost Rates</a:t>
            </a:r>
            <a:endParaRPr b="0" lang="en-US" sz="4000" spc="-1" strike="noStrike">
              <a:solidFill>
                <a:srgbClr val="000000"/>
              </a:solidFill>
              <a:latin typeface="Arial"/>
            </a:endParaRPr>
          </a:p>
        </p:txBody>
      </p:sp>
      <p:sp>
        <p:nvSpPr>
          <p:cNvPr id="59" name="PlaceHolder 2"/>
          <p:cNvSpPr>
            <a:spLocks noGrp="1"/>
          </p:cNvSpPr>
          <p:nvPr>
            <p:ph/>
          </p:nvPr>
        </p:nvSpPr>
        <p:spPr>
          <a:xfrm>
            <a:off x="9144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 submit audited expenditures to the SCDE by December 1 of each ye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s entered into our mainframe syste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s are run to exclude certain costs and treat certain costs as direct and indirec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ted expenditures for the second preceding fiscal year are to be used in the completion of the indirect cost proposals for a given fiscal year. For example, the rates for FY 2007-08 generally would have been based on FY 2005-06 dat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FY 2007-08 only, an average method of the past 3 fiscal years rates multiplied by 90% of the average rates were used per the USDE review.</a:t>
            </a:r>
            <a:endParaRPr b="0" lang="en-US" sz="2400" spc="-1" strike="noStrike">
              <a:solidFill>
                <a:srgbClr val="000000"/>
              </a:solidFill>
              <a:latin typeface="Arial"/>
            </a:endParaRPr>
          </a:p>
        </p:txBody>
      </p:sp>
      <p:pic>
        <p:nvPicPr>
          <p:cNvPr id="60" name="" descr=""/>
          <p:cNvPicPr/>
          <p:nvPr/>
        </p:nvPicPr>
        <p:blipFill>
          <a:blip r:embed="rId1"/>
          <a:stretch/>
        </p:blipFill>
        <p:spPr>
          <a:xfrm>
            <a:off x="3352680" y="5715000"/>
            <a:ext cx="2286000" cy="914400"/>
          </a:xfrm>
          <a:prstGeom prst="rect">
            <a:avLst/>
          </a:prstGeom>
          <a:ln w="0">
            <a:noFill/>
          </a:ln>
        </p:spPr>
      </p:pic>
      <p:sp>
        <p:nvSpPr>
          <p:cNvPr id="4" name="PlaceHolder 3"/>
          <p:cNvSpPr>
            <a:spLocks noGrp="1"/>
          </p:cNvSpPr>
          <p:nvPr>
            <p:ph type="sldNum" idx="3"/>
          </p:nvPr>
        </p:nvSpPr>
        <p:spPr/>
        <p:txBody>
          <a:bodyPr/>
          <a:p>
            <a:fld id="{C653C720-B3F1-4336-99A4-A8A73B0E50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1" name=""/>
          <p:cNvGraphicFramePr/>
          <p:nvPr/>
        </p:nvGraphicFramePr>
        <p:xfrm>
          <a:off x="1531800" y="2577960"/>
          <a:ext cx="6080400" cy="2389320"/>
        </p:xfrm>
        <a:graphic>
          <a:graphicData uri="http://schemas.openxmlformats.org/drawingml/2006/table">
            <a:tbl>
              <a:tblPr/>
              <a:tblGrid>
                <a:gridCol w="3097440"/>
                <a:gridCol w="2982960"/>
              </a:tblGrid>
              <a:tr h="395640">
                <a:tc>
                  <a:txBody>
                    <a:bodyPr lIns="90000" rIns="90000" tIns="46800" bIns="46800" anchor="t">
                      <a:noAutofit/>
                    </a:bodyPr>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tabLst>
                          <a:tab algn="l" pos="0"/>
                          <a:tab algn="l" pos="217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tabLst>
                          <a:tab algn="l" pos="0"/>
                          <a:tab algn="l" pos="217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tabLst>
                          <a:tab algn="l" pos="0"/>
                          <a:tab algn="l" pos="217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tabLst>
                          <a:tab algn="l" pos="0"/>
                          <a:tab algn="l" pos="217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tabLst>
                          <a:tab algn="l" pos="0"/>
                          <a:tab algn="r" pos="228600"/>
                          <a:tab algn="r" pos="3200400"/>
                          <a:tab algn="r" pos="3429000"/>
                          <a:tab algn="r"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tabLst>
                          <a:tab algn="l" pos="0"/>
                          <a:tab algn="r" pos="228600"/>
                          <a:tab algn="r" pos="3200400"/>
                          <a:tab algn="r" pos="3429000"/>
                          <a:tab algn="r"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tabLst>
                          <a:tab algn="l" pos="0"/>
                          <a:tab algn="r" pos="228600"/>
                          <a:tab algn="r" pos="3200400"/>
                          <a:tab algn="r" pos="3429000"/>
                          <a:tab algn="r"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tabLst>
                          <a:tab algn="l" pos="0"/>
                          <a:tab algn="r" pos="228600"/>
                          <a:tab algn="r" pos="3200400"/>
                          <a:tab algn="r" pos="3429000"/>
                          <a:tab algn="r"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CLUDED COST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686800" cy="4525920"/>
          </a:xfrm>
          <a:prstGeom prst="rect">
            <a:avLst/>
          </a:prstGeom>
          <a:noFill/>
          <a:ln w="0">
            <a:noFill/>
          </a:ln>
        </p:spPr>
        <p:txBody>
          <a:bodyPr anchor="t">
            <a:normAutofit fontScale="94000"/>
          </a:bodyPr>
          <a:p>
            <a:pPr marL="322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RICTED AND NONRESTRICTED</a:t>
            </a:r>
            <a:endParaRPr b="0" lang="en-US" sz="32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ies Acquisition and Construction (Function 253) </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od Services (Function 256, food/supp)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Charges (Function 400 series, trans. exp.) </a:t>
            </a:r>
            <a:r>
              <a:rPr b="0" lang="en-US" sz="2800" spc="-1" strike="noStrike">
                <a:solidFill>
                  <a:srgbClr val="000000"/>
                </a:solidFill>
                <a:latin typeface="Arial"/>
              </a:rPr>
              <a:t>	</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t Service (Function 500 series) </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Object 540 seri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BA7FCEF-248E-41FA-A966-2037C71245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DIRECT COSTS (Restricted)</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ard of Education (</a:t>
            </a:r>
            <a:r>
              <a:rPr b="0" lang="en-US" sz="3200" spc="-1" strike="noStrike" u="sng">
                <a:solidFill>
                  <a:srgbClr val="000000"/>
                </a:solidFill>
                <a:uFillTx/>
                <a:latin typeface="Arial"/>
              </a:rPr>
              <a:t>only account 231-318 audit service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scal Services (Function 25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ervices (Function 25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Auditing Services (Function 25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ral Support Services (Function 260 seri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8295C0A-BEA0-4EDB-A6A9-E66D3FC5DA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direct Costs (Unrestricted)</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ard of Education (</a:t>
            </a:r>
            <a:r>
              <a:rPr b="0" lang="en-US" sz="2800" spc="-1" strike="noStrike" u="sng">
                <a:solidFill>
                  <a:srgbClr val="000000"/>
                </a:solidFill>
                <a:uFillTx/>
                <a:latin typeface="Arial"/>
              </a:rPr>
              <a:t>only account 231-318 audit servi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scal Services (Function 25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 and Maintenance of Plant (Function 254)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l Services (Function 25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l Auditing Services (Function 25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 Support Services (Function 260 ser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reciation or Use Allowance on Buildings and Equipment (Data Supplied by LEA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8545273-BBCD-43D4-BBCA-A380C29741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OF RESTRICTED RATE</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DGAR 34 CFR Part 76.563 states that the restricted rate is used for programs with a statutory requirement prohibiting the use of Federal funds to supplant non-Federal funds. This holds true for the grantee and any subgrante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00F53F9-60C7-4BCE-8EE4-4A4C541B79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0T19:42:27Z</dcterms:created>
  <dc:creator>zzzusers</dc:creator>
  <dc:description/>
  <dc:language>en-US</dc:language>
  <cp:lastModifiedBy>zzzusers</cp:lastModifiedBy>
  <dcterms:modified xsi:type="dcterms:W3CDTF">2007-11-05T18:49:29Z</dcterms:modified>
  <cp:revision>20</cp:revision>
  <dc:subject/>
  <dc:title>Regulation</dc:title>
</cp:coreProperties>
</file>