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6.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46B1-B650-49D0-B403-50875F5A9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OMB does not state it, I would recommend that the PAR is also signed by the direct supervis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rint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7D7D8-FABF-4431-A1E0-18FA2CE17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B06F-46CC-4415-9F74-313464B9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C63A8-2E05-48FC-9175-D1EC0B51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F66CC-D624-4A90-9E99-C52F2BFB1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B0B3-8959-4254-8A2A-D434030F4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F2B6B-4EB6-42F6-893D-8125D25B5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93E2-9217-4AEF-896B-963224B1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E4AC2-BD42-4987-9501-F2285998F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1D7DA-8590-4F4E-866B-BB0251BD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6DEB-6C11-452F-8C9D-95E24D81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9A0F1-01BE-4DDB-AD81-8B816A887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37AE-EFCA-446C-B5B9-E3A232B03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F738-6A55-4851-A3FD-D0E3F0349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533520"/>
            <a:ext cx="5259240" cy="5779800"/>
          </a:xfrm>
          <a:prstGeom prst="rect">
            <a:avLst/>
          </a:prstGeom>
          <a:ln w="0">
            <a:noFill/>
          </a:ln>
        </p:spPr>
      </p:pic>
      <p:sp>
        <p:nvSpPr>
          <p:cNvPr id="49" name="PlaceHolder 1"/>
          <p:cNvSpPr>
            <a:spLocks noGrp="1"/>
          </p:cNvSpPr>
          <p:nvPr>
            <p:ph type="title"/>
          </p:nvPr>
        </p:nvSpPr>
        <p:spPr>
          <a:xfrm>
            <a:off x="685800" y="609480"/>
            <a:ext cx="7772400" cy="253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UDITING UPDATE</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2971800"/>
            <a:ext cx="6400800" cy="26668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RECT COST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IME DISTRIBUTION</a:t>
            </a: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issa A. Austin, Audits Manag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 State Department of Educ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Financ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rict Auditing and Field Services Sec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view</a:t>
            </a:r>
            <a:endParaRPr b="0" lang="en-US" sz="4400" spc="-1" strike="noStrike">
              <a:solidFill>
                <a:srgbClr val="000000"/>
              </a:solidFill>
              <a:latin typeface="Arial"/>
            </a:endParaRPr>
          </a:p>
        </p:txBody>
      </p:sp>
      <p:sp>
        <p:nvSpPr>
          <p:cNvPr id="7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07 – USDE Indirect Cost Group performed a review of the indirect cost allocation plan the SCDE uses for L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s noted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Leave Payment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on of new object codes 140 and 150</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0: Compensation paid to employees for accumulated terminal leave on termination of employ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0:  The second annual leave payment to eligible TERI employees at retirement</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be charged indirectly to federal programs (However, we may end up excluding the terminal leave payments altogether).</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of time distribu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DE must monitor LEA’s to ensure that they are in compliance with the A-87 requirements for time distribution recor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4B5F2C-15B5-40F7-9D18-3A2425055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tions</a:t>
            </a:r>
            <a:endParaRPr b="0" lang="en-US" sz="4400" spc="-1" strike="noStrike">
              <a:solidFill>
                <a:srgbClr val="000000"/>
              </a:solidFill>
              <a:latin typeface="Arial"/>
            </a:endParaRPr>
          </a:p>
        </p:txBody>
      </p:sp>
      <p:sp>
        <p:nvSpPr>
          <p:cNvPr id="7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B Circular A-87 “Cost Principles for State, Local, and Indian Tribal Organizations” Paragraph 8h establishes requirements for the support of salaries and wages in regards to federal aw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AR 34 CFR Part 76</a:t>
            </a:r>
            <a:endParaRPr b="0" lang="en-US" sz="3200" spc="-1" strike="noStrike">
              <a:solidFill>
                <a:srgbClr val="000000"/>
              </a:solidFill>
              <a:latin typeface="Arial"/>
            </a:endParaRPr>
          </a:p>
        </p:txBody>
      </p:sp>
      <p:pic>
        <p:nvPicPr>
          <p:cNvPr id="74" name="" descr=""/>
          <p:cNvPicPr/>
          <p:nvPr/>
        </p:nvPicPr>
        <p:blipFill>
          <a:blip r:embed="rId1"/>
          <a:stretch/>
        </p:blipFill>
        <p:spPr>
          <a:xfrm>
            <a:off x="2743200" y="4724280"/>
            <a:ext cx="3381480" cy="1752840"/>
          </a:xfrm>
          <a:prstGeom prst="rect">
            <a:avLst/>
          </a:prstGeom>
          <a:ln w="0">
            <a:noFill/>
          </a:ln>
        </p:spPr>
      </p:pic>
      <p:sp>
        <p:nvSpPr>
          <p:cNvPr id="4" name="PlaceHolder 3"/>
          <p:cNvSpPr>
            <a:spLocks noGrp="1"/>
          </p:cNvSpPr>
          <p:nvPr>
            <p:ph type="sldNum" idx="3"/>
          </p:nvPr>
        </p:nvSpPr>
        <p:spPr/>
        <p:txBody>
          <a:bodyPr/>
          <a:p>
            <a:fld id="{6B93BF01-6687-48C6-BF16-3BFE7FEBFB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Requiremen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rges to federal awards for salaries and wages, whether treated as direct or indirect costs, will be based on payrolls documented in accordance with generally accepted practice of the government unit and approved by a responsible official of the government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62320" y="4800600"/>
            <a:ext cx="4038480" cy="1828800"/>
          </a:xfrm>
          <a:prstGeom prst="rect">
            <a:avLst/>
          </a:prstGeom>
          <a:ln w="0">
            <a:noFill/>
          </a:ln>
        </p:spPr>
      </p:pic>
      <p:sp>
        <p:nvSpPr>
          <p:cNvPr id="4" name="PlaceHolder 3"/>
          <p:cNvSpPr>
            <a:spLocks noGrp="1"/>
          </p:cNvSpPr>
          <p:nvPr>
            <p:ph type="sldNum" idx="3"/>
          </p:nvPr>
        </p:nvSpPr>
        <p:spPr/>
        <p:txBody>
          <a:bodyPr/>
          <a:p>
            <a:fld id="{C43CBBEA-D13A-4569-AB30-49A584CDAA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Requirement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s – </a:t>
            </a:r>
            <a:r>
              <a:rPr b="1" lang="en-US" sz="2000" spc="-1" strike="noStrike" u="sng">
                <a:solidFill>
                  <a:srgbClr val="000000"/>
                </a:solidFill>
                <a:uFillTx/>
                <a:latin typeface="Arial"/>
              </a:rPr>
              <a:t>At least semi-annually</a:t>
            </a:r>
            <a:r>
              <a:rPr b="0" lang="en-US" sz="2000" spc="-1" strike="noStrike">
                <a:solidFill>
                  <a:srgbClr val="000000"/>
                </a:solidFill>
                <a:latin typeface="Arial"/>
              </a:rPr>
              <a:t>, employees who are expected to work solely on a single Federal award or cost objective are required to certify that they indeed worked solely on that program for the period covered by the certific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st Objective – 100% from a single funding source, 100% with a single type of student/class which may be funded from federal, state, and/or local funds (ex. Voc. Ed, IDE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ways possible to tell by looking at funding only whether an employee is single or multiple cost objectives. Single cost objective will be determined by the employee’s activities, not solely by funding</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signed by the employee or the supervisory official having first-hand knowledge of the work performed by the employe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tandard for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3D7CFE-D5B5-433B-B6A0-5C0F3B602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ation Requirements (Continu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activity reports – For employees who work on multiple activities or cost objectives, a distribution of their salaries or wages will be supported by P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one federal aw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ward and non-Federal aw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st activity and a direct cost acti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indirect cost activities allocated using different b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nallowable activity and a direct or indirect cost activity</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ED0CEC-1522-4699-A8FC-3C2963C3BF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 REQUIREMENTS</a:t>
            </a:r>
            <a:endParaRPr b="0" lang="en-US" sz="4400" spc="-1" strike="noStrike">
              <a:solidFill>
                <a:srgbClr val="000000"/>
              </a:solidFill>
              <a:latin typeface="Arial"/>
            </a:endParaRPr>
          </a:p>
        </p:txBody>
      </p:sp>
      <p:sp>
        <p:nvSpPr>
          <p:cNvPr id="8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flect an after the fact distribu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account for the total activity for which an employee is compensated</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non-federal activity, it is okay to just state “non-federal activity” without including any additional detai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ctivities must be described</a:t>
            </a: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prepared </a:t>
            </a:r>
            <a:r>
              <a:rPr b="1" lang="en-US" sz="3200" spc="-1" strike="noStrike">
                <a:solidFill>
                  <a:srgbClr val="000000"/>
                </a:solidFill>
                <a:latin typeface="Arial"/>
              </a:rPr>
              <a:t>month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signed and dated by the employee</a:t>
            </a:r>
            <a:endParaRPr b="0" lang="en-US" sz="32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4D4820-5B8C-42CE-90EB-FD9E54483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ation Requirements (Continued)</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laries and wages of employees used in meeting cost sharing and matching requirements of Federal awards </a:t>
            </a:r>
            <a:r>
              <a:rPr b="1" lang="en-US" sz="3200" spc="-1" strike="noStrike" u="sng">
                <a:solidFill>
                  <a:srgbClr val="000000"/>
                </a:solidFill>
                <a:uFillTx/>
                <a:latin typeface="Arial"/>
              </a:rPr>
              <a:t>must be supported in the same manner</a:t>
            </a:r>
            <a:r>
              <a:rPr b="1" lang="en-US" sz="3200" spc="-1" strike="noStrike">
                <a:solidFill>
                  <a:srgbClr val="000000"/>
                </a:solidFill>
                <a:latin typeface="Arial"/>
              </a:rPr>
              <a:t> as those claimed as allowable costs under Federal awar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1A8DC56-F31C-4460-B67E-6C4A531FE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justment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s are required to adjust time from budgeted hours to actual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ments must be made at least </a:t>
            </a:r>
            <a:r>
              <a:rPr b="1" lang="en-US" sz="2800" spc="-1" strike="noStrike" u="sng">
                <a:solidFill>
                  <a:srgbClr val="000000"/>
                </a:solidFill>
                <a:uFillTx/>
                <a:latin typeface="Arial"/>
              </a:rPr>
              <a:t>quarte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charged to Federal awards to reflect adjustments made as a result of the activity actually performed may be recorded annually if the quarterly comparisons show the differences between budgeted and actual costs are </a:t>
            </a:r>
            <a:r>
              <a:rPr b="1" lang="en-US" sz="2800" spc="-1" strike="noStrike" u="sng">
                <a:solidFill>
                  <a:srgbClr val="000000"/>
                </a:solidFill>
                <a:uFillTx/>
                <a:latin typeface="Arial"/>
              </a:rPr>
              <a:t>less than ten perc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C93F029-FB0A-4703-8ED4-07B224F9E4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ation of certifications and personnel activity records should be readily available for audits by independent auditors, the SCDE, or federal auditors. The length of time documentation should be kept shall be in accordance with state and federal regulations, normally between 3-5 y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531934-65A2-4712-8450-1105ECA3EE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s, at least semi-annually, are required for employees who are expected to work 100% on a single cost objec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activity records (PAR’s) (at least monthly) are required for those employees who work on multiple cost objecti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ment of budgeted hours to actual hours must be made at least quarterly unless differences are less than ten percent. If less than 10%, the adjustments can be made annual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documentation for the required period of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E718F2-C8F2-44C5-8C3E-FC5AF16B3A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are Indirect Cos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 are those expenses of doing business that are not readily identifiable with the activities of a grant or contract but are, nevertheless, incurred for the joint benefit of those activities and other activities or programs of the organiz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riter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curred for a common or joint purpose benefiting more than one cost objective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not readily assignable to the cost objectives specifically benefite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33B5BB2-8E01-44A7-A6F8-B4E51715FB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lissa A. Austin</a:t>
            </a:r>
            <a:br>
              <a:rPr sz="4400"/>
            </a:br>
            <a:r>
              <a:rPr b="0" lang="en-US" sz="4400" spc="-1" strike="noStrike">
                <a:solidFill>
                  <a:srgbClr val="000000"/>
                </a:solidFill>
                <a:latin typeface="Arial"/>
              </a:rPr>
              <a:t>Audits Manager</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29 Senate Street, Room 403</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bia, SC  29201</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3-734-8453</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tin@ed.sc.gov</a:t>
            </a:r>
            <a:endParaRPr b="0" lang="en-US" sz="2800" spc="-1" strike="noStrike">
              <a:solidFill>
                <a:srgbClr val="000000"/>
              </a:solidFill>
              <a:latin typeface="Arial"/>
            </a:endParaRPr>
          </a:p>
        </p:txBody>
      </p:sp>
      <p:pic>
        <p:nvPicPr>
          <p:cNvPr id="94" name="" descr=""/>
          <p:cNvPicPr/>
          <p:nvPr/>
        </p:nvPicPr>
        <p:blipFill>
          <a:blip r:embed="rId1"/>
          <a:stretch/>
        </p:blipFill>
        <p:spPr>
          <a:xfrm>
            <a:off x="3962520" y="685800"/>
            <a:ext cx="1299960" cy="143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Indirect Cost Function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ro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a:t>
            </a:r>
            <a:endParaRPr b="0" lang="en-US" sz="3200" spc="-1" strike="noStrike">
              <a:solidFill>
                <a:srgbClr val="000000"/>
              </a:solidFill>
              <a:latin typeface="Arial"/>
            </a:endParaRPr>
          </a:p>
        </p:txBody>
      </p:sp>
      <p:pic>
        <p:nvPicPr>
          <p:cNvPr id="55" name="" descr=""/>
          <p:cNvPicPr/>
          <p:nvPr/>
        </p:nvPicPr>
        <p:blipFill>
          <a:blip r:embed="rId1"/>
          <a:stretch/>
        </p:blipFill>
        <p:spPr>
          <a:xfrm>
            <a:off x="4114800" y="1752480"/>
            <a:ext cx="3429000" cy="3200400"/>
          </a:xfrm>
          <a:prstGeom prst="rect">
            <a:avLst/>
          </a:prstGeom>
          <a:ln w="0">
            <a:noFill/>
          </a:ln>
        </p:spPr>
      </p:pic>
      <p:sp>
        <p:nvSpPr>
          <p:cNvPr id="4" name="PlaceHolder 3"/>
          <p:cNvSpPr>
            <a:spLocks noGrp="1"/>
          </p:cNvSpPr>
          <p:nvPr>
            <p:ph type="sldNum" idx="3"/>
          </p:nvPr>
        </p:nvSpPr>
        <p:spPr/>
        <p:txBody>
          <a:bodyPr/>
          <a:p>
            <a:fld id="{75A16172-D794-49AE-BA5B-D4AB1D9DCC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s of Direct Cos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ries and W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s and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mployee fringe benefits for direct labor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of direct labor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for a specific program or g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nt services for a particular program or gr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8076A5-798A-4A47-BB28-93BCC7C17B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utation of Indirect Cost Rates</a:t>
            </a:r>
            <a:endParaRPr b="0" lang="en-US" sz="4000" spc="-1" strike="noStrike">
              <a:solidFill>
                <a:srgbClr val="000000"/>
              </a:solidFill>
              <a:latin typeface="Arial"/>
            </a:endParaRPr>
          </a:p>
        </p:txBody>
      </p:sp>
      <p:sp>
        <p:nvSpPr>
          <p:cNvPr id="59"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 submit audited expenditures to the SCDE by December 1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entered into our mainframe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are run to exclude certain costs and treat certain costs as direct and indir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ed expenditures for the second preceding fiscal year are to be used in the completion of the indirect cost proposals for a given fiscal year. For example, the rates for FY 2007-08 generally would have been based on FY 2005-06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Y 2007-08 only, an average method of the past 3 fiscal years rates multiplied by 90% of the average rates were used per the USDE review.</a:t>
            </a:r>
            <a:endParaRPr b="0" lang="en-US" sz="2400" spc="-1" strike="noStrike">
              <a:solidFill>
                <a:srgbClr val="000000"/>
              </a:solidFill>
              <a:latin typeface="Arial"/>
            </a:endParaRPr>
          </a:p>
        </p:txBody>
      </p:sp>
      <p:pic>
        <p:nvPicPr>
          <p:cNvPr id="60" name="" descr=""/>
          <p:cNvPicPr/>
          <p:nvPr/>
        </p:nvPicPr>
        <p:blipFill>
          <a:blip r:embed="rId1"/>
          <a:stretch/>
        </p:blipFill>
        <p:spPr>
          <a:xfrm>
            <a:off x="3352680" y="5715000"/>
            <a:ext cx="2286000" cy="914400"/>
          </a:xfrm>
          <a:prstGeom prst="rect">
            <a:avLst/>
          </a:prstGeom>
          <a:ln w="0">
            <a:noFill/>
          </a:ln>
        </p:spPr>
      </p:pic>
      <p:sp>
        <p:nvSpPr>
          <p:cNvPr id="4" name="PlaceHolder 3"/>
          <p:cNvSpPr>
            <a:spLocks noGrp="1"/>
          </p:cNvSpPr>
          <p:nvPr>
            <p:ph type="sldNum" idx="3"/>
          </p:nvPr>
        </p:nvSpPr>
        <p:spPr/>
        <p:txBody>
          <a:bodyPr/>
          <a:p>
            <a:fld id="{7857CFC2-5F84-49CC-856C-3D4311D6F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531800" y="2577960"/>
          <a:ext cx="6080400" cy="2389320"/>
        </p:xfrm>
        <a:graphic>
          <a:graphicData uri="http://schemas.openxmlformats.org/drawingml/2006/table">
            <a:tbl>
              <a:tblPr/>
              <a:tblGrid>
                <a:gridCol w="3097440"/>
                <a:gridCol w="2982960"/>
              </a:tblGrid>
              <a:tr h="395640">
                <a:tc>
                  <a:txBody>
                    <a:bodyPr lIns="90000" rIns="90000" tIns="46800" bIns="46800" anchor="t">
                      <a:no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CLUDED COS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686800" cy="4525920"/>
          </a:xfrm>
          <a:prstGeom prst="rect">
            <a:avLst/>
          </a:prstGeom>
          <a:noFill/>
          <a:ln w="0">
            <a:noFill/>
          </a:ln>
        </p:spPr>
        <p:txBody>
          <a:bodyPr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ED AND NONRESTRICTE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Acquisition and Construction (Function 253)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ervices (Function 256, food/supp)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harges (Function 400 series, trans. exp.)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Service (Function 500 serie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Object 540 se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6B6095-E2A0-4E4C-A006-EBAD50EFE8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RECT COSTS (Restrict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ucation (</a:t>
            </a:r>
            <a:r>
              <a:rPr b="0" lang="en-US" sz="3200" spc="-1" strike="noStrike" u="sng">
                <a:solidFill>
                  <a:srgbClr val="000000"/>
                </a:solidFill>
                <a:uFillTx/>
                <a:latin typeface="Arial"/>
              </a:rPr>
              <a:t>only account 231-318 audit servic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Services (Function 2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ervices (Function 25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Auditing Services (Function 25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Support Services (Function 260 se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95F344-1F78-4C2C-AA25-412CC1471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rect Costs (Unrestric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of Education (</a:t>
            </a:r>
            <a:r>
              <a:rPr b="0" lang="en-US" sz="2800" spc="-1" strike="noStrike" u="sng">
                <a:solidFill>
                  <a:srgbClr val="000000"/>
                </a:solidFill>
                <a:uFillTx/>
                <a:latin typeface="Arial"/>
              </a:rPr>
              <a:t>only account 231-318 audit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Services (Function 25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of Plant (Function 25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Services (Function 25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uditing Services (Function 25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Support Services (Function 260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or Use Allowance on Buildings and Equipment (Data Supplied by LE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142AB7-65D4-4675-9217-83867B8BF3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RESTRICTED RAT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GAR 34 CFR Part 76.563 states that the restricted rate is used for programs with a statutory requirement prohibiting the use of Federal funds to supplant non-Federal funds. This holds true for the grantee and any subgrante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BCAB4B-467D-48D6-BCC5-B6826CCE0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42:27Z</dcterms:created>
  <dc:creator>zzzusers</dc:creator>
  <dc:description/>
  <dc:language>en-US</dc:language>
  <cp:lastModifiedBy>zzzusers</cp:lastModifiedBy>
  <dcterms:modified xsi:type="dcterms:W3CDTF">2007-11-05T18:49:29Z</dcterms:modified>
  <cp:revision>20</cp:revision>
  <dc:subject/>
  <dc:title>Regulation</dc:title>
</cp:coreProperties>
</file>